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4919-2344-478C-9027-BD0658D8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EF16-921D-4D70-9F0B-4ED9D85F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D135-0AE4-4758-A30F-8461AC9D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CD10-1390-4CBE-9A2F-33C4461AF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6135-341C-4B4A-83E5-31956D6A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A36-6CEB-4A61-BC9E-5F5899EC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434B-A1F3-4510-96B1-C924DD9C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F83-69D3-4E67-9177-52D1C6E0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FA44-EA63-40FE-ADCC-66F73CF9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3A14-0161-4A90-8F0C-E62E3B5C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7C9-C9EB-404C-9BAA-DD49F0FF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9B9C-10A8-4A33-BE31-4FD29CDA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DD72-0E12-4C59-9601-85625B5857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should society deal with lawbreake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Assessment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est Inven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stor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MI Ch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/Group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le Wor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Law Co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/ Contrast Elements of Law Codes: Pros and C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cklist for Preparing Power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bri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/Group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fter Project Is Comple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Rubric – Gr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Point Rubric – Gra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werPoint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gument whether your law code would apply to a modern in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JazzTextExtended"/>
                <a:ea typeface="JazzTextExtended"/>
              </a:rPr>
              <a:t>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4" descr="MCj02908850000[1]"/>
          <p:cNvPicPr/>
          <p:nvPr/>
        </p:nvPicPr>
        <p:blipFill>
          <a:blip r:embed="rId1"/>
          <a:stretch/>
        </p:blipFill>
        <p:spPr>
          <a:xfrm>
            <a:off x="1447920" y="1450800"/>
            <a:ext cx="594360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urlz MT"/>
              </a:rPr>
              <a:t>Unit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at are common elements of legal system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es a given legal system affect the people living under i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have early legal systems acted as precedents to legal systems today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urlz MT"/>
              </a:rPr>
              <a:t>Content Ques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What is The Code of Hammurabi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What are The Ten Commandments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What is Legalism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onotype Corsiva"/>
              </a:rPr>
              <a:t>What are The Twelve Tabl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pi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Requiremen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You will development a PowerPoint presentation to take a stand on how successful your assigned law system was in dealing with lawbreaker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This PowerPoint will support an argument/debate you will have in clas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Rub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2:39:13Z</dcterms:created>
  <dc:creator>Valued Gateway Client</dc:creator>
  <dc:description/>
  <dc:language>en-US</dc:language>
  <cp:lastModifiedBy>Jenny Ann</cp:lastModifiedBy>
  <dcterms:modified xsi:type="dcterms:W3CDTF">2009-10-19T22:25:10Z</dcterms:modified>
  <cp:revision>13</cp:revision>
  <dc:subject/>
  <dc:title>How should society deal with lawbreakers?</dc:title>
</cp:coreProperties>
</file>